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D866-1A23-4A96-9935-9BD10F4A2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1ED5-4544-4834-B83A-DE23468A3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EA70-9019-4353-A449-7F9F1CDE9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588E-461A-4968-82F6-D80CC3C56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313B-CCD4-443D-A6A0-ED14B6617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4BF6-A955-47AA-9D91-8151DE2F0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B6A8-A701-489A-9C1A-4088A7BB4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265E-83E3-4A10-907E-104841B3C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AD44-DCF6-4AEE-A30B-1D43C3385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3767-42AC-4B8F-9322-3953E24ED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8FBC-06BF-4760-B87A-34468A06E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DF67-1E36-4002-A438-19991D417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0267-3CAE-4043-B831-8EF80BDF6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9CC-7487-4032-8793-2EEBA01D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366-1AFC-4E2D-BDE6-2CFFE52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075-9B1F-45B7-80A8-35AA3E22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841-2DA9-4B93-9AAD-D924F5AE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CCF-194D-4D13-9E92-4AB20876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629-45EA-48DC-B926-1680E279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3BC-FCC0-4AA4-BE3E-47B69AE0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154-9F2E-41FC-8E1D-832AEE7E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B66-C06C-42D0-9ABF-8B1ACABA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BBD-8C29-4936-AAB5-55141BB7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5A7-6458-48EB-9C9D-4F413FA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52B-305D-4892-9C79-DD10BBB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CB8C-A2E0-4BA7-8131-94078D461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85840" y="5148360"/>
            <a:ext cx="835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7200" y="10080"/>
            <a:ext cx="7691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Кто на себя глядит, свой видит лик,</a:t>
            </a:r>
            <a:br>
              <a:rPr sz="3600"/>
            </a:b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Кто видит лик свой, цену себе знает, </a:t>
            </a:r>
            <a:br>
              <a:rPr sz="3600"/>
            </a:b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Кто знает цену, строг к себе бывает, </a:t>
            </a:r>
            <a:br>
              <a:rPr sz="3600"/>
            </a:b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Кто строг к себе - тот истинно велик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(Пьер Гренгор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0" y="428760"/>
            <a:ext cx="9001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     Функциональный аспек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насколько структура урока соответствовала общей це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соответствие возможностям кла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анализ стиля отношений учителя и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влияние на конечный результат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     Аспект оценки конечного результата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формирование универсальных учебных действий на уро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определение разрыва между общей целью урока и  результатами уро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причины разры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выводы и самооц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0" y="428760"/>
            <a:ext cx="900108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НЫЙ ПОДХОД К ПЕДАГОГИЧЕСКОМУ САМОАНАЛИЗУ УР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ая общая характеристика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 Общая подготовленность клас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       умение детей работать в пар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       умение детей работать в малых групп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       умение слушать друг друга и фронтально взаимодействова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       умение самооценивать себя и взаимооценивать друг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    Общая характеристика об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   Что преобладает: соперничество или сотрудничество? Проблема лидеров и аутсайде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    Включенность детей в учебную деятельность и общий уровень ее сформированности в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     Общая характеристика освоения программы к этому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0" y="428760"/>
            <a:ext cx="9001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Анализ эффективности проекта (плана) ур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    Реальность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    Каким образом организовать  работу на уро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   Что проектировалось изучить? Зачем? Роль этого материала в предмете. Достаточно ли глубоко учитель сам знает этот материа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   Какие(ое) понятия были намечены для усвоения учащимися? На какие другие понятия они (оно) опираются? Для каких понятий являются баз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    Что знают ученики об изучаемом поняти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   Сущность характеристики изучаемого понятия, которые должны быть в центре внимания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   Какие учебные действия должны осуществить учащиеся, чтобы освоить данное понятие и общий способ действ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     Каким образом проектировался вод учащихся в учебную задач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     Как проектировалось осуществление остальных этапов решения учебной задач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Предусматривались ли в проекте урока реальные трудности, с которыми могли встретиться дети в ходе решения учебной задачи? Прогнозировались ли возможные ошибки учащихс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 Какие критерии освоения данного материала намечались в проекте уро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  Общий вывод о реальности и эффективности проекта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0" y="214200"/>
            <a:ext cx="9001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Как был осуществлен урок (соответствие замыслу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    Совпадает ли цель урока с его конечным результатом? В чем выражается разрыв? Удалось ли осуществить намеченную программу? Если да, то почему? Если нет, то почем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     Соответствие формы организации поставленной цели урока? Удалось ли учителю занять роль равноправного члена дискусси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     Каким образом в начале урока учитель создал ситуацию успех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     При помощи каких способов была создана ситуация принятия учащимися учебной задачи? Как она повлияла  на дальнейший ход ее решени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     Была ли принята учебная задача учащимис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     Насколько эффективно осуществлялся этап преобразования условий задач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     Каким образом учитель создал ситуацию, при которой дети приняли такие учебные действия как моделирование и преобразование модел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     Какие формы использовал учитель для организации решения частных задач? Уровень задач, их «интересность» с точки зрения лингвистического или математического материал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     Как был организован контроль? Контроль проходил, как самостоятельное действие или был включен в состав других действий? Что ученик контролировал: процесс выполнения действия или только результат? Когда контроль осуществлялся: в начале действия, в процессе действия или после его окончания? Какой арсенал средств и форм использовал учитель для освоения действия контроля детьм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  Опирались ли дети при работе на свою собственную оценку или прибегали к оценке учител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0" y="500040"/>
            <a:ext cx="900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ценка целостности у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    Насколько содержание  урока соответствовало требованиям ФГОС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    На каком уровне было организовано на уроке взаимодействие ученик-ученик, ученик-учитель, ученик-групп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    Охарактеризовать взаимодействие этапов учебной задачи в ходе саморешения. Выделить наиболее сильные и слабые этапы (с точки зрения качества их осуществления) и их влияния на конечный результат 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      Рефлексивная деятельность учащихся в результате решения учебной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дети-школа.jpg"/>
          <p:cNvPicPr/>
          <p:nvPr/>
        </p:nvPicPr>
        <p:blipFill>
          <a:blip r:embed="rId2"/>
          <a:stretch/>
        </p:blipFill>
        <p:spPr>
          <a:xfrm>
            <a:off x="2357280" y="4071960"/>
            <a:ext cx="3976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642960" y="-240120"/>
            <a:ext cx="7500960" cy="72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ы должны сами верить в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о, чему учим наших детей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Calibri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lori-0001913994-bigwww800.jpg"/>
          <p:cNvPicPr/>
          <p:nvPr/>
        </p:nvPicPr>
        <p:blipFill>
          <a:blip r:embed="rId2"/>
          <a:stretch/>
        </p:blipFill>
        <p:spPr>
          <a:xfrm>
            <a:off x="1143000" y="1857240"/>
            <a:ext cx="69292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амоанализ  современного урока в соответствии с требовани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едерального государственног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образовательного стандар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85840" y="107496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амоанализ урока – средство самосовершенствования уч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071720" y="18241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57120" y="20797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амоанализ урока дает возможность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авильно формулировать и ставить цели своей деятельности и деятельности учащихся на уроке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звивать умения устанавливать связи между условиями своей педагогической деятельности и средствами достижения целей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ормировать умения четко планировать и предвидеть результаты своего педагогического труда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ормировать самосознание ученика, когда он начинает видеть связь между способами действий и конечным результатом урок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rcRect l="0" t="0" r="8529" b="0"/>
          <a:stretch/>
        </p:blipFill>
        <p:spPr>
          <a:xfrm>
            <a:off x="6337440" y="0"/>
            <a:ext cx="25207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14240" y="214200"/>
          <a:ext cx="8143920" cy="5942160"/>
        </p:xfrm>
        <a:graphic>
          <a:graphicData uri="http://schemas.openxmlformats.org/drawingml/2006/table">
            <a:tbl>
              <a:tblPr/>
              <a:tblGrid>
                <a:gridCol w="1785960"/>
                <a:gridCol w="3214800"/>
                <a:gridCol w="3143160"/>
              </a:tblGrid>
              <a:tr h="24624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Требования к у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Традиционный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 современ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вление тем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сообщает  учащим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ируют сами учащие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формулирует и сообщает учащимся, чему должны науч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ируют сами учащиеся, определив границы знания и незн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сообщает учащимся, какую работу они должны выполнить, чтобы достичь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 учащимися способов достижения намеченной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 руководством учителя учащиеся выполняют ряд практических задач (чаще применяется фронтальный метод организации деяте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ение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осуществляет контроль за выполнением учащимися практическ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осуществляют контроль (применяются формы самоконтроля, взаимоконтро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ение корр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в ходе выполнения и по итогам выполненной работы учащимися осуществляет коррек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формулируют затруднения и осуществляют коррекцию самостоя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ивание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осуществляет оценивание учащихся за работу на уро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дают оценку деятельности по её результатам (самооценивание, оценивание результатов деятельности товарищ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выясняет у учащихся, что они запомн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одится рефлек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ее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объявляет и комментирует (чаще – задание одно для все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могут выбирать задание из предложенных учителем с учётом индивидуальных возмо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Прямоугольник 3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142920" y="142920"/>
            <a:ext cx="900108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хема анализа урока по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рагменты урока: виды деятельности учащихся, задания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технологий деятельностного ти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блемный диалог (проблемная ситуация, поиск решения, применение нового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уктивное чтение (работа с текстом до чтения, во время чтения, после чте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ценивание учебных успехов (самооценка по алгоритму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428760"/>
            <a:ext cx="900108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ие результаты продемонстрированы в виде универсальных учебных действий (указать группу и конкретные виды действ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егулятивные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пределять цель и составлять план, действовать по плану, оценивать результ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знавательные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звлекать информацию, перерабатывать её (анализ, сравнение, классификация…), представлять в разных фор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оммуникативные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носить свою позицию, понимать других (в т.ч. вычитывать информацию, данную в явном и неявном виде - подтекст, концепт), сотруднич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Личностные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ценивать поступки, объяснять нравственные оценки и мотивы, самоопределяться в системе ценностей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0" y="428760"/>
            <a:ext cx="90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Что в следующий раз можно сделать луч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блемы в развит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универсальных учебных действ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едметных ум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е проблемы взаимодействия учителя и учеников, проявившиеся в данном фрагменте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0" y="428760"/>
            <a:ext cx="90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н самоанализа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Характеристика кла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межличностные отнош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недостатки биологического и психического развит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недостатки подготовленности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Место урока в изучаемой т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характер связи урока с предыдущим и последующим уро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Характеристика общей цели урока, конкретизируемой в дидактических целях: образовательной, развивающей и воспитываю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0" y="428760"/>
            <a:ext cx="90010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     Характеристика плана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содержание учебного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методы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приёмы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формы организации позна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     Как был построен урок в соответствии с пла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разбор этапов урока, т.е. как используемые учебно-воспитательные элементы повлияли на ход урока (положительно, отрицательно), на получение конечного результ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     Структурный аспект самоанализа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анализ каждого элемента уро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его вклад в достижение результ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доказательства оптимального выбора каждого элемента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imc</cp:lastModifiedBy>
  <dcterms:modified xsi:type="dcterms:W3CDTF">2017-01-12T11:35:28Z</dcterms:modified>
  <cp:revision>26</cp:revision>
  <dc:subject/>
  <dc:title>Слайд 1</dc:title>
</cp:coreProperties>
</file>